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8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18.png" ContentType="image/png"/>
  <Override PartName="/ppt/media/image25.gif" ContentType="image/gif"/>
  <Override PartName="/ppt/media/image6.jpeg" ContentType="image/jpeg"/>
  <Override PartName="/ppt/media/image19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4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C69F-5F3F-4DDA-84FB-72D34BFE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3186-CCDB-41F4-AA25-69473384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1AA7-575D-4B23-A44A-EFA6D827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C69A-4311-4B74-A819-573CBD07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5A22-ECFA-4A46-BE07-86A9AE0D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1D84-AA4E-44FE-B4D4-F6D97106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C41A-AFE8-48B0-832F-642CA07A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27C5-B672-4E70-BC7C-48F16CA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9674-2EB6-44DA-9377-741DA9B0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5E74-0154-483E-9D17-2482C52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535-F6AA-4CA5-83B1-12A083A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5337-EF95-4C63-8B4D-6CF3359D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5EC-F6D4-4430-A852-143538F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7292-B627-4E07-A1F9-F751492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71A2-C90F-42FE-94C7-7699CD2A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6C31-AFEB-4945-8A74-7E0B0CA8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DFBA-1CAD-47F8-8B1E-1FD23C37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4BF9-686E-400B-ABEC-C2F87FD3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9BC9-356A-43DD-A5E8-FE1F3258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4E38-681E-4061-A0CB-7F1147B1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D7FC-3B70-411A-9A79-B810BDCB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4B0F-6B9B-48C5-968F-B70975D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A8CF-A80D-4863-9B2E-E015B970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525B-6379-4DC0-BC3C-D7AEF0C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21B-7987-4FCD-A8CC-C2DA840F599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4F1-4991-40DA-8AAE-A0157421D4D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pptx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upporting%20files/Our%20first%20digital%20learning%20centre.ppt" TargetMode="External"/><Relationship Id="rId2" Type="http://schemas.openxmlformats.org/officeDocument/2006/relationships/image" Target="../media/image24.wmf"/><Relationship Id="rId3" Type="http://schemas.openxmlformats.org/officeDocument/2006/relationships/hyperlink" Target="file:///Supporting%20files/Learn%20to%20Read%202-%20by%20Mrs%20Driver.pps" TargetMode="External"/><Relationship Id="rId4" Type="http://schemas.openxmlformats.org/officeDocument/2006/relationships/hyperlink" Target="file:///Supporting%20files/Learn%20to%20Read%202-%20by%20Mrs%20Driver.pps" TargetMode="External"/><Relationship Id="rId5" Type="http://schemas.openxmlformats.org/officeDocument/2006/relationships/image" Target="../media/image25.gif"/><Relationship Id="rId6" Type="http://schemas.openxmlformats.org/officeDocument/2006/relationships/hyperlink" Target="file:///Supporting%20files/Senior%20School%20DLC.pps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Supporting%20files/DLC%20for%20Kiwiana/DLC%20-%20Kiwiana%20-%20auto.pps" TargetMode="External"/><Relationship Id="rId9" Type="http://schemas.openxmlformats.org/officeDocument/2006/relationships/image" Target="../media/image27.wmf"/><Relationship Id="rId10" Type="http://schemas.openxmlformats.org/officeDocument/2006/relationships/hyperlink" Target="file:///Supporting%20files/DLC%20-%20Year%201%20&#8211;.pps" TargetMode="External"/><Relationship Id="rId11" Type="http://schemas.openxmlformats.org/officeDocument/2006/relationships/hyperlink" Target="file:///Supporting%20files/Vocabulary.ppt" TargetMode="External"/><Relationship Id="rId12" Type="http://schemas.openxmlformats.org/officeDocument/2006/relationships/hyperlink" Target="file:///Supporting%20files/Te%20Reo%20Maori%20%20by%20Justine%20Driver.ppsx" TargetMode="External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.xml"/><Relationship Id="rId8" Type="http://schemas.openxmlformats.org/officeDocument/2006/relationships/slide" Target="slide5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3.xml"/><Relationship Id="rId12" Type="http://schemas.openxmlformats.org/officeDocument/2006/relationships/hyperlink" Target="file:///tmp/home/.config/libreoffice/4/user/gallery/a%20instruction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00"/>
                </a:solidFill>
                <a:latin typeface="Arial"/>
              </a:rPr>
              <a:t>Digital Learning Centres</a:t>
            </a:r>
            <a:r>
              <a:rPr b="0" lang="en-NZ" sz="6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6000"/>
            </a:br>
            <a:r>
              <a:rPr b="0" lang="en-NZ" sz="6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en-NZ" sz="4800" spc="-1" strike="noStrike">
                <a:solidFill>
                  <a:srgbClr val="dfdef6"/>
                </a:solidFill>
                <a:latin typeface="Arial"/>
              </a:rPr>
              <a:t>- A Paradigm Shift –</a:t>
            </a:r>
            <a:br>
              <a:rPr sz="4800"/>
            </a:b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Presented by</a:t>
            </a:r>
            <a:br>
              <a:rPr sz="2800"/>
            </a:br>
            <a:r>
              <a:rPr b="0" i="1" lang="en-NZ" sz="2800" spc="-1" strike="noStrike">
                <a:solidFill>
                  <a:srgbClr val="ffff00"/>
                </a:solidFill>
                <a:latin typeface="Arial"/>
              </a:rPr>
              <a:t>Justine Driv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10" descr=""/>
          <p:cNvPicPr/>
          <p:nvPr/>
        </p:nvPicPr>
        <p:blipFill>
          <a:blip r:embed="rId1"/>
          <a:srcRect l="36591" t="0" r="1262" b="24857"/>
          <a:stretch/>
        </p:blipFill>
        <p:spPr>
          <a:xfrm>
            <a:off x="3635280" y="4797360"/>
            <a:ext cx="1047960" cy="1752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/>
          <p:cNvPicPr/>
          <p:nvPr/>
        </p:nvPicPr>
        <p:blipFill>
          <a:blip r:embed="rId2"/>
          <a:stretch/>
        </p:blipFill>
        <p:spPr>
          <a:xfrm>
            <a:off x="2411280" y="278136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3"/>
          <a:stretch/>
        </p:blipFill>
        <p:spPr>
          <a:xfrm>
            <a:off x="2133720" y="4952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"/>
          <p:cNvPicPr/>
          <p:nvPr/>
        </p:nvPicPr>
        <p:blipFill>
          <a:blip r:embed="rId4"/>
          <a:stretch/>
        </p:blipFill>
        <p:spPr>
          <a:xfrm>
            <a:off x="6659640" y="4365720"/>
            <a:ext cx="1965240" cy="2217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"/>
          <p:cNvPicPr/>
          <p:nvPr/>
        </p:nvPicPr>
        <p:blipFill>
          <a:blip r:embed="rId5"/>
          <a:stretch/>
        </p:blipFill>
        <p:spPr>
          <a:xfrm>
            <a:off x="1295280" y="1371600"/>
            <a:ext cx="1268640" cy="19051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"/>
          <p:cNvPicPr/>
          <p:nvPr/>
        </p:nvPicPr>
        <p:blipFill>
          <a:blip r:embed="rId6">
            <a:lum contrast="-96000"/>
          </a:blip>
          <a:stretch/>
        </p:blipFill>
        <p:spPr>
          <a:xfrm>
            <a:off x="838080" y="4572000"/>
            <a:ext cx="1381320" cy="1600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6" descr=""/>
          <p:cNvPicPr/>
          <p:nvPr/>
        </p:nvPicPr>
        <p:blipFill>
          <a:blip r:embed="rId7"/>
          <a:stretch/>
        </p:blipFill>
        <p:spPr>
          <a:xfrm>
            <a:off x="2916360" y="378936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7" descr=""/>
          <p:cNvPicPr/>
          <p:nvPr/>
        </p:nvPicPr>
        <p:blipFill>
          <a:blip r:embed="rId8"/>
          <a:stretch/>
        </p:blipFill>
        <p:spPr>
          <a:xfrm>
            <a:off x="1523880" y="380880"/>
            <a:ext cx="1422360" cy="1067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8" descr=""/>
          <p:cNvPicPr/>
          <p:nvPr/>
        </p:nvPicPr>
        <p:blipFill>
          <a:blip r:embed="rId9"/>
          <a:srcRect l="0" t="0" r="0" b="4881"/>
          <a:stretch/>
        </p:blipFill>
        <p:spPr>
          <a:xfrm>
            <a:off x="152280" y="1981080"/>
            <a:ext cx="1274760" cy="16765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"/>
          <p:cNvPicPr/>
          <p:nvPr/>
        </p:nvPicPr>
        <p:blipFill>
          <a:blip r:embed="rId10"/>
          <a:stretch/>
        </p:blipFill>
        <p:spPr>
          <a:xfrm>
            <a:off x="228600" y="304920"/>
            <a:ext cx="1447920" cy="981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0" descr=""/>
          <p:cNvPicPr/>
          <p:nvPr/>
        </p:nvPicPr>
        <p:blipFill>
          <a:blip r:embed="rId11"/>
          <a:stretch/>
        </p:blipFill>
        <p:spPr>
          <a:xfrm>
            <a:off x="1600200" y="3352680"/>
            <a:ext cx="1320840" cy="1413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1" descr=""/>
          <p:cNvPicPr/>
          <p:nvPr/>
        </p:nvPicPr>
        <p:blipFill>
          <a:blip r:embed="rId12"/>
          <a:srcRect l="0" t="0" r="0" b="6641"/>
          <a:stretch/>
        </p:blipFill>
        <p:spPr>
          <a:xfrm>
            <a:off x="228600" y="5105520"/>
            <a:ext cx="1039680" cy="1218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2" descr=""/>
          <p:cNvPicPr/>
          <p:nvPr/>
        </p:nvPicPr>
        <p:blipFill>
          <a:blip r:embed="rId13"/>
          <a:stretch/>
        </p:blipFill>
        <p:spPr>
          <a:xfrm>
            <a:off x="4500720" y="431784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3" descr=""/>
          <p:cNvPicPr/>
          <p:nvPr/>
        </p:nvPicPr>
        <p:blipFill>
          <a:blip r:embed="rId14"/>
          <a:stretch/>
        </p:blipFill>
        <p:spPr>
          <a:xfrm>
            <a:off x="304920" y="3657600"/>
            <a:ext cx="1272960" cy="11127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4" descr=""/>
          <p:cNvPicPr/>
          <p:nvPr/>
        </p:nvPicPr>
        <p:blipFill>
          <a:blip r:embed="rId15"/>
          <a:stretch/>
        </p:blipFill>
        <p:spPr>
          <a:xfrm>
            <a:off x="304920" y="1066680"/>
            <a:ext cx="121896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ef6"/>
                </a:solidFill>
                <a:latin typeface="Arial"/>
              </a:rPr>
              <a:t>Home Page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Picture 3" descr="Coffee Guy standing and pointing"/>
          <p:cNvPicPr/>
          <p:nvPr/>
        </p:nvPicPr>
        <p:blipFill>
          <a:blip r:embed="rId1"/>
          <a:stretch/>
        </p:blipFill>
        <p:spPr>
          <a:xfrm>
            <a:off x="4500720" y="3860640"/>
            <a:ext cx="2377800" cy="2735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games_art"/>
          <p:cNvPicPr/>
          <p:nvPr/>
        </p:nvPicPr>
        <p:blipFill>
          <a:blip r:embed="rId2"/>
          <a:stretch/>
        </p:blipFill>
        <p:spPr>
          <a:xfrm>
            <a:off x="6616800" y="1773360"/>
            <a:ext cx="2527200" cy="323352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5">
            <a:hlinkClick r:id="rId3" action="ppaction://hlinksldjump"/>
          </p:cNvPr>
          <p:cNvSpPr/>
          <p:nvPr/>
        </p:nvSpPr>
        <p:spPr>
          <a:xfrm>
            <a:off x="1187280" y="234936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1258920" y="35733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1258920" y="472428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219564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2340000" y="3645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M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340000" y="465300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11" descr="Horizontal logo with Elbow"/>
          <p:cNvPicPr/>
          <p:nvPr/>
        </p:nvPicPr>
        <p:blipFill>
          <a:blip r:embed="rId4"/>
          <a:stretch/>
        </p:blipFill>
        <p:spPr>
          <a:xfrm>
            <a:off x="4788000" y="476280"/>
            <a:ext cx="3600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Step 3: Creating P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sign the page with activities you would like the children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cide on whether you are going to use an action button or a picture to hyperlink to th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ave all document pages into your supporting files 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" name="Object 4"/>
          <p:cNvGraphicFramePr/>
          <p:nvPr/>
        </p:nvGraphicFramePr>
        <p:xfrm>
          <a:off x="395280" y="1844640"/>
          <a:ext cx="3745080" cy="28083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59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1844640"/>
                    <a:ext cx="37450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1" name="Picture 3" descr="signals_art"/>
          <p:cNvPicPr/>
          <p:nvPr/>
        </p:nvPicPr>
        <p:blipFill>
          <a:blip r:embed="rId1"/>
          <a:stretch/>
        </p:blipFill>
        <p:spPr>
          <a:xfrm>
            <a:off x="5405400" y="2587680"/>
            <a:ext cx="2778120" cy="3549600"/>
          </a:xfrm>
          <a:prstGeom prst="rect">
            <a:avLst/>
          </a:prstGeom>
          <a:ln w="0">
            <a:noFill/>
          </a:ln>
        </p:spPr>
      </p:pic>
      <p:sp>
        <p:nvSpPr>
          <p:cNvPr id="602" name="AutoShape 4"/>
          <p:cNvSpPr/>
          <p:nvPr/>
        </p:nvSpPr>
        <p:spPr>
          <a:xfrm>
            <a:off x="971640" y="220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971640" y="3357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1042920" y="4797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2268360" y="2205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igit Work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2340000" y="3357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’s Up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2268360" y="4724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ying or Dividing by 10 or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10" descr="Bunkum catching a fly with his tongue"/>
          <p:cNvPicPr/>
          <p:nvPr/>
        </p:nvPicPr>
        <p:blipFill>
          <a:blip r:embed="rId2"/>
          <a:stretch/>
        </p:blipFill>
        <p:spPr>
          <a:xfrm>
            <a:off x="4500720" y="549360"/>
            <a:ext cx="3600360" cy="117000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11"/>
          <p:cNvSpPr/>
          <p:nvPr/>
        </p:nvSpPr>
        <p:spPr>
          <a:xfrm>
            <a:off x="810108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10800" y="6540"/>
                </a:moveTo>
                <a:lnTo>
                  <a:pt x="13376" y="9152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3"/>
                </a:lnTo>
                <a:lnTo>
                  <a:pt x="5491" y="20693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7">
                <a:moveTo>
                  <a:pt x="13376" y="9152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7">
                <a:moveTo>
                  <a:pt x="9877" y="17002"/>
                </a:moveTo>
                <a:lnTo>
                  <a:pt x="11723" y="17002"/>
                </a:lnTo>
                <a:lnTo>
                  <a:pt x="11723" y="20693"/>
                </a:lnTo>
                <a:lnTo>
                  <a:pt x="16109" y="20693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3"/>
                </a:lnTo>
                <a:lnTo>
                  <a:pt x="9877" y="206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Step 4: Hyperlinking Action Butt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Go to the slide show t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Go to the action button 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elect the button style and position the button on the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utomatically a command bar comes up and select the hyperlink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croll down the right hand menu to select where the button will hyperlink to… you can hyperlink to a website, programme or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The move to Web 2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-learning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Home access to enhance the partnership between home and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24/7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Not platform/software 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ction Button: Forward or Next 3"/>
          <p:cNvSpPr/>
          <p:nvPr/>
        </p:nvSpPr>
        <p:spPr>
          <a:xfrm>
            <a:off x="3192480" y="1628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Review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functions to a DLC (Digital Learning Centre)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As a maintenance programme for new learning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As a portal to new learning in the classroom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As a portal to new learning with guided learning experi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539640" y="404640"/>
            <a:ext cx="828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gital Learning Centres are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3059280" y="3284640"/>
            <a:ext cx="345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un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539640" y="5589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possibilities are endless… enjoy creating your new learning cent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Picture 7" descr="DSC03370"/>
          <p:cNvPicPr/>
          <p:nvPr/>
        </p:nvPicPr>
        <p:blipFill>
          <a:blip r:embed="rId5"/>
          <a:stretch/>
        </p:blipFill>
        <p:spPr>
          <a:xfrm>
            <a:off x="826920" y="342900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dfdef6"/>
                </a:solidFill>
                <a:latin typeface="Arial"/>
              </a:rPr>
              <a:t>My Journe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MVC-006S"/>
          <p:cNvPicPr/>
          <p:nvPr/>
        </p:nvPicPr>
        <p:blipFill>
          <a:blip r:embed="rId1"/>
          <a:stretch/>
        </p:blipFill>
        <p:spPr>
          <a:xfrm>
            <a:off x="826920" y="1341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MVC-004S"/>
          <p:cNvPicPr/>
          <p:nvPr/>
        </p:nvPicPr>
        <p:blipFill>
          <a:blip r:embed="rId2"/>
          <a:stretch/>
        </p:blipFill>
        <p:spPr>
          <a:xfrm>
            <a:off x="4932360" y="1484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5280" y="4508280"/>
            <a:ext cx="7931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01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tarted in 2003 constructing learning centres us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ard cop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se were developed using the six thinking hats, multiple intelligences and blooms taxonom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yperlinked WORD documents for easy computer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dfdef6"/>
                </a:solidFill>
                <a:latin typeface="Arial"/>
              </a:rPr>
              <a:t>Purposes and benefits of using learning centres in your classroo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learning centre reinforces, enriches and extends concepts taught as part of the daily program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ildren’s learning needs and strengths can be cater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veloping independent working skills, and self management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reating an atmosphere of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ildren need to develop a range of skills that will help them to become independent learners.  In particular self-evaluation, peer- evaluation, recording and reporting skills, and choice m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dfdef6"/>
                </a:solidFill>
                <a:latin typeface="Arial"/>
              </a:rPr>
              <a:t>The Move to Digital Learning Centr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n sav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n be quickly mod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ave many pathways – like turning pages in a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ard copy” can be in a clearfile for re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CT skills are being reinforced and used within a purposeful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MVC-041S"/>
          <p:cNvPicPr/>
          <p:nvPr/>
        </p:nvPicPr>
        <p:blipFill>
          <a:blip r:embed="rId6"/>
          <a:stretch/>
        </p:blipFill>
        <p:spPr>
          <a:xfrm>
            <a:off x="539640" y="2205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Track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000" y="2324160"/>
            <a:ext cx="48956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hecking the children are completing tas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Finding which tasks are the most/least popula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hecking all learning styles are being catered f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Giving children the opportunity to develop self-management skill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re are three functions to a DLC (Digital Learning Centre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As a maintenance programme for new learning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As a portal to new learning in the classroom progra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As a portal to new learning with guided learning experi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6" descr="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5724360" y="1844640"/>
            <a:ext cx="2605320" cy="195408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4"/>
          <p:cNvSpPr/>
          <p:nvPr/>
        </p:nvSpPr>
        <p:spPr>
          <a:xfrm>
            <a:off x="8388360" y="6093000"/>
            <a:ext cx="433440" cy="5047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4720"/>
              <a:gd name="textAreaBottom" fmla="*/ 476640 h 504720"/>
            </a:gdLst>
            <a:ahLst/>
            <a:rect l="textAreaLeft" t="textAreaTop" r="textAreaRight" b="textAreaBottom"/>
            <a:pathLst>
              <a:path w="21600" h="25149">
                <a:moveTo>
                  <a:pt x="0" y="0"/>
                </a:moveTo>
                <a:lnTo>
                  <a:pt x="21600" y="0"/>
                </a:lnTo>
                <a:lnTo>
                  <a:pt x="21600" y="25149"/>
                </a:lnTo>
                <a:lnTo>
                  <a:pt x="0" y="25149"/>
                </a:lnTo>
                <a:close/>
              </a:path>
              <a:path fill="lightenLess" w="21600" h="251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9">
                <a:moveTo>
                  <a:pt x="21600" y="0"/>
                </a:moveTo>
                <a:lnTo>
                  <a:pt x="21600" y="25149"/>
                </a:lnTo>
                <a:lnTo>
                  <a:pt x="20200" y="23749"/>
                </a:lnTo>
                <a:lnTo>
                  <a:pt x="20200" y="1400"/>
                </a:lnTo>
                <a:close/>
              </a:path>
              <a:path fill="darkenLess" w="21600" h="25149">
                <a:moveTo>
                  <a:pt x="21600" y="25149"/>
                </a:moveTo>
                <a:lnTo>
                  <a:pt x="0" y="25149"/>
                </a:lnTo>
                <a:lnTo>
                  <a:pt x="1400" y="23749"/>
                </a:lnTo>
                <a:lnTo>
                  <a:pt x="20200" y="23749"/>
                </a:lnTo>
                <a:close/>
              </a:path>
              <a:path fill="lighten" w="21600" h="25149">
                <a:moveTo>
                  <a:pt x="0" y="251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684360" y="1413000"/>
            <a:ext cx="8064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Arial"/>
              </a:rPr>
              <a:t>To be successful all learning centres need a management system in place for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740720" y="6093000"/>
            <a:ext cx="433440" cy="5047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4720"/>
              <a:gd name="textAreaBottom" fmla="*/ 476640 h 504720"/>
            </a:gdLst>
            <a:ahLst/>
            <a:rect l="textAreaLeft" t="textAreaTop" r="textAreaRight" b="textAreaBottom"/>
            <a:pathLst>
              <a:path w="21600" h="25149">
                <a:moveTo>
                  <a:pt x="0" y="0"/>
                </a:moveTo>
                <a:lnTo>
                  <a:pt x="21600" y="0"/>
                </a:lnTo>
                <a:lnTo>
                  <a:pt x="21600" y="25149"/>
                </a:lnTo>
                <a:lnTo>
                  <a:pt x="0" y="25149"/>
                </a:lnTo>
                <a:close/>
              </a:path>
              <a:path fill="lightenLess" w="21600" h="251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9">
                <a:moveTo>
                  <a:pt x="21600" y="0"/>
                </a:moveTo>
                <a:lnTo>
                  <a:pt x="21600" y="25149"/>
                </a:lnTo>
                <a:lnTo>
                  <a:pt x="20200" y="23749"/>
                </a:lnTo>
                <a:lnTo>
                  <a:pt x="20200" y="1400"/>
                </a:lnTo>
                <a:close/>
              </a:path>
              <a:path fill="darkenLess" w="21600" h="25149">
                <a:moveTo>
                  <a:pt x="21600" y="25149"/>
                </a:moveTo>
                <a:lnTo>
                  <a:pt x="0" y="25149"/>
                </a:lnTo>
                <a:lnTo>
                  <a:pt x="1400" y="23749"/>
                </a:lnTo>
                <a:lnTo>
                  <a:pt x="20200" y="23749"/>
                </a:lnTo>
                <a:close/>
              </a:path>
              <a:path fill="lighten" w="21600" h="25149">
                <a:moveTo>
                  <a:pt x="0" y="251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11" descr="http://www.bbps.school.nz/F1000025.JPG"/>
          <p:cNvPicPr/>
          <p:nvPr/>
        </p:nvPicPr>
        <p:blipFill>
          <a:blip r:embed="rId6"/>
          <a:stretch/>
        </p:blipFill>
        <p:spPr>
          <a:xfrm>
            <a:off x="5580000" y="3933720"/>
            <a:ext cx="29512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dfdef6"/>
                </a:solidFill>
                <a:latin typeface="Arial"/>
              </a:rPr>
              <a:t>Our Exampl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AutoShape 4">
            <a:hlinkClick r:id="rId1"/>
          </p:cNvPr>
          <p:cNvSpPr/>
          <p:nvPr/>
        </p:nvSpPr>
        <p:spPr>
          <a:xfrm>
            <a:off x="468360" y="1268280"/>
            <a:ext cx="1439640" cy="1440000"/>
          </a:xfrm>
          <a:custGeom>
            <a:avLst/>
            <a:gdLst>
              <a:gd name="textAreaLeft" fmla="*/ 93240 w 1439640"/>
              <a:gd name="textAreaRight" fmla="*/ 1346400 w 143964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9"/>
          <p:cNvGrpSpPr/>
          <p:nvPr/>
        </p:nvGrpSpPr>
        <p:grpSpPr>
          <a:xfrm>
            <a:off x="2050920" y="2205000"/>
            <a:ext cx="1440000" cy="1440000"/>
            <a:chOff x="2050920" y="2205000"/>
            <a:chExt cx="1440000" cy="1440000"/>
          </a:xfrm>
        </p:grpSpPr>
        <p:sp>
          <p:nvSpPr>
            <p:cNvPr id="549" name="AutoShape 6">
              <a:hlinkClick r:id="rId3"/>
            </p:cNvPr>
            <p:cNvSpPr/>
            <p:nvPr/>
          </p:nvSpPr>
          <p:spPr>
            <a:xfrm>
              <a:off x="2050920" y="2205000"/>
              <a:ext cx="1440000" cy="1440000"/>
            </a:xfrm>
            <a:custGeom>
              <a:avLst/>
              <a:gdLst>
                <a:gd name="textAreaLeft" fmla="*/ 93240 w 1440000"/>
                <a:gd name="textAreaRight" fmla="*/ 1346760 w 1440000"/>
                <a:gd name="textAreaTop" fmla="*/ 93240 h 1440000"/>
                <a:gd name="textAreaBottom" fmla="*/ 13467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0" name="Picture 7" descr="clvrchk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308320" y="2392560"/>
              <a:ext cx="874080" cy="106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13"/>
          <p:cNvGrpSpPr/>
          <p:nvPr/>
        </p:nvGrpSpPr>
        <p:grpSpPr>
          <a:xfrm>
            <a:off x="3635280" y="3213000"/>
            <a:ext cx="1368360" cy="1295640"/>
            <a:chOff x="3635280" y="3213000"/>
            <a:chExt cx="1368360" cy="1295640"/>
          </a:xfrm>
        </p:grpSpPr>
        <p:sp>
          <p:nvSpPr>
            <p:cNvPr id="552" name="AutoShape 10">
              <a:hlinkClick r:id="rId6"/>
            </p:cNvPr>
            <p:cNvSpPr/>
            <p:nvPr/>
          </p:nvSpPr>
          <p:spPr>
            <a:xfrm>
              <a:off x="3635280" y="3213000"/>
              <a:ext cx="1368360" cy="1295640"/>
            </a:xfrm>
            <a:custGeom>
              <a:avLst/>
              <a:gdLst>
                <a:gd name="textAreaLeft" fmla="*/ 83880 w 1368360"/>
                <a:gd name="textAreaRight" fmla="*/ 1284480 w 1368360"/>
                <a:gd name="textAreaTop" fmla="*/ 83880 h 1295640"/>
                <a:gd name="textAreaBottom" fmla="*/ 1211760 h 1295640"/>
              </a:gdLst>
              <a:ahLst/>
              <a:rect l="textAreaLeft" t="textAreaTop" r="textAreaRight" b="textAreaBottom"/>
              <a:pathLst>
                <a:path w="22812" h="21600">
                  <a:moveTo>
                    <a:pt x="0" y="0"/>
                  </a:moveTo>
                  <a:lnTo>
                    <a:pt x="22812" y="0"/>
                  </a:lnTo>
                  <a:lnTo>
                    <a:pt x="22812" y="21600"/>
                  </a:lnTo>
                  <a:lnTo>
                    <a:pt x="0" y="21600"/>
                  </a:lnTo>
                  <a:close/>
                </a:path>
                <a:path fill="lightenLess" w="22812" h="21600">
                  <a:moveTo>
                    <a:pt x="0" y="0"/>
                  </a:moveTo>
                  <a:lnTo>
                    <a:pt x="22812" y="0"/>
                  </a:lnTo>
                  <a:lnTo>
                    <a:pt x="21412" y="1400"/>
                  </a:lnTo>
                  <a:lnTo>
                    <a:pt x="1400" y="1400"/>
                  </a:lnTo>
                  <a:close/>
                </a:path>
                <a:path fill="darken" w="22812" h="21600">
                  <a:moveTo>
                    <a:pt x="22812" y="0"/>
                  </a:moveTo>
                  <a:lnTo>
                    <a:pt x="22812" y="21600"/>
                  </a:lnTo>
                  <a:lnTo>
                    <a:pt x="21412" y="20200"/>
                  </a:lnTo>
                  <a:lnTo>
                    <a:pt x="21412" y="1400"/>
                  </a:lnTo>
                  <a:close/>
                </a:path>
                <a:path fill="darkenLess" w="22812" h="21600">
                  <a:moveTo>
                    <a:pt x="228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412" y="20200"/>
                  </a:lnTo>
                  <a:close/>
                </a:path>
                <a:path fill="lighten" w="228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3" name="Picture 11" descr="games_art"/>
            <p:cNvPicPr/>
            <p:nvPr/>
          </p:nvPicPr>
          <p:blipFill>
            <a:blip r:embed="rId7"/>
            <a:stretch/>
          </p:blipFill>
          <p:spPr>
            <a:xfrm>
              <a:off x="3927960" y="3420000"/>
              <a:ext cx="717480" cy="8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AutoShape 14">
            <a:hlinkClick r:id="rId8"/>
          </p:cNvPr>
          <p:cNvSpPr/>
          <p:nvPr/>
        </p:nvSpPr>
        <p:spPr>
          <a:xfrm>
            <a:off x="5219640" y="4221000"/>
            <a:ext cx="1150920" cy="1151280"/>
          </a:xfrm>
          <a:custGeom>
            <a:avLst/>
            <a:gdLst>
              <a:gd name="textAreaLeft" fmla="*/ 74520 w 1150920"/>
              <a:gd name="textAreaRight" fmla="*/ 1076400 w 115092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15">
            <a:hlinkClick r:id="rId10"/>
          </p:cNvPr>
          <p:cNvSpPr/>
          <p:nvPr/>
        </p:nvSpPr>
        <p:spPr>
          <a:xfrm>
            <a:off x="6804000" y="5157720"/>
            <a:ext cx="1224000" cy="129564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95640"/>
              <a:gd name="textAreaBottom" fmla="*/ 1216440 h 1295640"/>
            </a:gdLst>
            <a:ahLst/>
            <a:rect l="textAreaLeft" t="textAreaTop" r="textAreaRight" b="textAreaBottom"/>
            <a:pathLst>
              <a:path w="21600" h="22864">
                <a:moveTo>
                  <a:pt x="0" y="0"/>
                </a:moveTo>
                <a:lnTo>
                  <a:pt x="21600" y="0"/>
                </a:lnTo>
                <a:lnTo>
                  <a:pt x="21600" y="22864"/>
                </a:lnTo>
                <a:lnTo>
                  <a:pt x="0" y="22864"/>
                </a:lnTo>
                <a:close/>
              </a:path>
              <a:path fill="lightenLess" w="21600" h="228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64">
                <a:moveTo>
                  <a:pt x="21600" y="0"/>
                </a:moveTo>
                <a:lnTo>
                  <a:pt x="21600" y="22864"/>
                </a:lnTo>
                <a:lnTo>
                  <a:pt x="20200" y="21464"/>
                </a:lnTo>
                <a:lnTo>
                  <a:pt x="20200" y="1400"/>
                </a:lnTo>
                <a:close/>
              </a:path>
              <a:path fill="darkenLess" w="21600" h="22864">
                <a:moveTo>
                  <a:pt x="21600" y="22864"/>
                </a:moveTo>
                <a:lnTo>
                  <a:pt x="0" y="22864"/>
                </a:lnTo>
                <a:lnTo>
                  <a:pt x="1400" y="21464"/>
                </a:lnTo>
                <a:lnTo>
                  <a:pt x="20200" y="21464"/>
                </a:lnTo>
                <a:close/>
              </a:path>
              <a:path fill="lighten" w="21600" h="22864">
                <a:moveTo>
                  <a:pt x="0" y="228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64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L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16">
            <a:hlinkClick r:id="rId11"/>
          </p:cNvPr>
          <p:cNvSpPr/>
          <p:nvPr/>
        </p:nvSpPr>
        <p:spPr>
          <a:xfrm>
            <a:off x="7308720" y="3284640"/>
            <a:ext cx="1297080" cy="115236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12" h="21600">
                <a:moveTo>
                  <a:pt x="0" y="0"/>
                </a:moveTo>
                <a:lnTo>
                  <a:pt x="24312" y="0"/>
                </a:lnTo>
                <a:lnTo>
                  <a:pt x="24312" y="21600"/>
                </a:lnTo>
                <a:lnTo>
                  <a:pt x="0" y="21600"/>
                </a:lnTo>
                <a:close/>
              </a:path>
              <a:path fill="lightenLess" w="24312" h="21600">
                <a:moveTo>
                  <a:pt x="0" y="0"/>
                </a:moveTo>
                <a:lnTo>
                  <a:pt x="24312" y="0"/>
                </a:lnTo>
                <a:lnTo>
                  <a:pt x="22912" y="1400"/>
                </a:lnTo>
                <a:lnTo>
                  <a:pt x="1400" y="1400"/>
                </a:lnTo>
                <a:close/>
              </a:path>
              <a:path fill="darken" w="24312" h="21600">
                <a:moveTo>
                  <a:pt x="24312" y="0"/>
                </a:moveTo>
                <a:lnTo>
                  <a:pt x="24312" y="21600"/>
                </a:lnTo>
                <a:lnTo>
                  <a:pt x="22912" y="20200"/>
                </a:lnTo>
                <a:lnTo>
                  <a:pt x="22912" y="1400"/>
                </a:lnTo>
                <a:close/>
              </a:path>
              <a:path fill="darkenLess" w="24312" h="21600">
                <a:moveTo>
                  <a:pt x="24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12" y="20200"/>
                </a:lnTo>
                <a:close/>
              </a:path>
              <a:path fill="lighten" w="24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1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920880" y="4795920"/>
            <a:ext cx="197460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dfdef6"/>
                </a:solidFill>
                <a:latin typeface="Arial"/>
              </a:rPr>
              <a:t>How to make a digital learning cent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is your purpose?  What is the learning context?  What thinking tools will you us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lan on paper  a storyboard/ design for your learning cen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class fold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to include a sub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or “supporting 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pen a powerpoint presentation and save into the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class 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1042920" y="1197000"/>
            <a:ext cx="727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Step 1: Purpose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Step 2: The Home P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You should always start with a home page… this will be the child’s first port of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t’s purpose is to guide the child through the “pa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"/>
          <p:cNvGraphicFramePr/>
          <p:nvPr/>
        </p:nvGraphicFramePr>
        <p:xfrm>
          <a:off x="324000" y="1700280"/>
          <a:ext cx="4176720" cy="3132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700280"/>
                    <a:ext cx="41767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4535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gramme 2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Oval 3">
            <a:hlinkClick r:id="rId1" action="ppaction://hlinksldjump"/>
          </p:cNvPr>
          <p:cNvSpPr/>
          <p:nvPr/>
        </p:nvSpPr>
        <p:spPr>
          <a:xfrm>
            <a:off x="179280" y="2565360"/>
            <a:ext cx="2303640" cy="792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e big 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4">
            <a:hlinkClick r:id="rId2" action="ppaction://hlinksldjump"/>
          </p:cNvPr>
          <p:cNvSpPr/>
          <p:nvPr/>
        </p:nvSpPr>
        <p:spPr>
          <a:xfrm>
            <a:off x="2411280" y="2852640"/>
            <a:ext cx="2305080" cy="792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Can go h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5">
            <a:hlinkClick r:id="rId3" action="ppaction://hlinksldjump"/>
          </p:cNvPr>
          <p:cNvSpPr/>
          <p:nvPr/>
        </p:nvSpPr>
        <p:spPr>
          <a:xfrm>
            <a:off x="4356000" y="3357720"/>
            <a:ext cx="23749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Come 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6">
            <a:hlinkClick r:id="rId4" action="ppaction://hlinksldjump"/>
          </p:cNvPr>
          <p:cNvSpPr/>
          <p:nvPr/>
        </p:nvSpPr>
        <p:spPr>
          <a:xfrm>
            <a:off x="6300720" y="3860640"/>
            <a:ext cx="2232000" cy="792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as did s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7">
            <a:hlinkClick r:id="rId5" action="ppaction://hlinksldjump"/>
          </p:cNvPr>
          <p:cNvSpPr/>
          <p:nvPr/>
        </p:nvSpPr>
        <p:spPr>
          <a:xfrm>
            <a:off x="250920" y="3789360"/>
            <a:ext cx="230508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Had got sa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8">
            <a:hlinkClick r:id="rId6" action="ppaction://hlinksldjump"/>
          </p:cNvPr>
          <p:cNvSpPr/>
          <p:nvPr/>
        </p:nvSpPr>
        <p:spPr>
          <a:xfrm>
            <a:off x="2340000" y="4365720"/>
            <a:ext cx="244944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For her i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9">
            <a:hlinkClick r:id="rId7" action="ppaction://hlinksldjump"/>
          </p:cNvPr>
          <p:cNvSpPr/>
          <p:nvPr/>
        </p:nvSpPr>
        <p:spPr>
          <a:xfrm>
            <a:off x="4427640" y="4870440"/>
            <a:ext cx="237636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Are no 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10">
            <a:hlinkClick r:id="rId8" action="ppaction://hlinksldjump"/>
          </p:cNvPr>
          <p:cNvSpPr/>
          <p:nvPr/>
        </p:nvSpPr>
        <p:spPr>
          <a:xfrm>
            <a:off x="6372360" y="5446800"/>
            <a:ext cx="2233440" cy="793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ith d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1">
            <a:hlinkClick r:id="rId9" action="ppaction://hlinksldjump"/>
          </p:cNvPr>
          <p:cNvSpPr/>
          <p:nvPr/>
        </p:nvSpPr>
        <p:spPr>
          <a:xfrm>
            <a:off x="684360" y="5373720"/>
            <a:ext cx="237780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Little th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2">
            <a:hlinkClick r:id="rId10" action="ppaction://hlinksldjump"/>
          </p:cNvPr>
          <p:cNvSpPr/>
          <p:nvPr/>
        </p:nvSpPr>
        <p:spPr>
          <a:xfrm>
            <a:off x="2771640" y="5878440"/>
            <a:ext cx="23767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There 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13">
            <a:hlinkClick r:id="rId11" action="ppaction://hlinksldjump"/>
          </p:cNvPr>
          <p:cNvSpPr/>
          <p:nvPr/>
        </p:nvSpPr>
        <p:spPr>
          <a:xfrm>
            <a:off x="5796000" y="2276640"/>
            <a:ext cx="3025800" cy="79056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d the basic word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755640" y="1052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rn to read the basic words each week or practise reading the basic words and poems by pressing                  .You can listen to a poem by pressing           and return to the word page by pressing               to get back to this page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15"/>
          <p:cNvSpPr/>
          <p:nvPr/>
        </p:nvSpPr>
        <p:spPr>
          <a:xfrm>
            <a:off x="3276720" y="1989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16"/>
          <p:cNvSpPr/>
          <p:nvPr/>
        </p:nvSpPr>
        <p:spPr>
          <a:xfrm>
            <a:off x="6732720" y="170028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1835280" y="162864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8406"/>
                </a:moveTo>
                <a:lnTo>
                  <a:pt x="13624" y="8406"/>
                </a:lnTo>
                <a:lnTo>
                  <a:pt x="18045" y="3794"/>
                </a:lnTo>
                <a:lnTo>
                  <a:pt x="18045" y="17806"/>
                </a:lnTo>
                <a:lnTo>
                  <a:pt x="13624" y="13194"/>
                </a:lnTo>
                <a:lnTo>
                  <a:pt x="9194" y="13194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23206" y="10800"/>
                </a:lnTo>
              </a:path>
              <a:path fill="darken" w="32400" h="21600">
                <a:moveTo>
                  <a:pt x="19699" y="8406"/>
                </a:moveTo>
                <a:lnTo>
                  <a:pt x="23206" y="5639"/>
                </a:lnTo>
              </a:path>
              <a:path fill="darken" w="32400" h="21600">
                <a:moveTo>
                  <a:pt x="19699" y="13194"/>
                </a:moveTo>
                <a:lnTo>
                  <a:pt x="23206" y="15961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18">
            <a:hlinkClick r:id="rId12"/>
          </p:cNvPr>
          <p:cNvSpPr/>
          <p:nvPr/>
        </p:nvSpPr>
        <p:spPr>
          <a:xfrm>
            <a:off x="324000" y="105264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8406"/>
                </a:moveTo>
                <a:lnTo>
                  <a:pt x="13644" y="8406"/>
                </a:lnTo>
                <a:lnTo>
                  <a:pt x="18065" y="3794"/>
                </a:lnTo>
                <a:lnTo>
                  <a:pt x="18065" y="17806"/>
                </a:lnTo>
                <a:lnTo>
                  <a:pt x="13644" y="13194"/>
                </a:lnTo>
                <a:lnTo>
                  <a:pt x="9214" y="13194"/>
                </a:lnTo>
                <a:close/>
              </a:path>
              <a:path fill="darken" w="32441" h="21600">
                <a:moveTo>
                  <a:pt x="19719" y="10800"/>
                </a:moveTo>
                <a:lnTo>
                  <a:pt x="23227" y="10800"/>
                </a:lnTo>
              </a:path>
              <a:path fill="darken" w="32441" h="21600">
                <a:moveTo>
                  <a:pt x="19719" y="8406"/>
                </a:moveTo>
                <a:lnTo>
                  <a:pt x="23227" y="5639"/>
                </a:lnTo>
              </a:path>
              <a:path fill="darken" w="32441" h="21600">
                <a:moveTo>
                  <a:pt x="19719" y="13194"/>
                </a:moveTo>
                <a:lnTo>
                  <a:pt x="23227" y="15961"/>
                </a:lnTo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19"/>
          <p:cNvSpPr/>
          <p:nvPr/>
        </p:nvSpPr>
        <p:spPr>
          <a:xfrm>
            <a:off x="3924360" y="1413000"/>
            <a:ext cx="1224000" cy="215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6516720" y="6453360"/>
            <a:ext cx="24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©2006 justinedriver@wooshco.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48:13Z</dcterms:created>
  <dc:creator>mareeg</dc:creator>
  <dc:description/>
  <dc:language>en-US</dc:language>
  <cp:lastModifiedBy>Driver</cp:lastModifiedBy>
  <dcterms:modified xsi:type="dcterms:W3CDTF">2011-07-25T21:48:47Z</dcterms:modified>
  <cp:revision>19</cp:revision>
  <dc:subject/>
  <dc:title>Slide 1</dc:title>
</cp:coreProperties>
</file>